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220-F34D-45B4-BF64-2E795C19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3A4-64E5-4C18-AF93-1BAA19AE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B3B6-6A6F-4C28-9028-A038EF36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0506-F1B4-40FB-BBD4-A0B4EB8C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DC0C-E2AF-440E-896C-93D06D20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1160-ED7F-40D4-A372-6EBABD48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4161-74A1-41AF-BE35-95885E68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944F-5897-40F1-A10E-A80021B1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82FE-D51D-4F3E-B206-C9F75678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9FD0-9EDA-4D75-8230-5125D2C2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DD52-14B1-48F3-87B6-F4958831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003-9B82-4F97-B6ED-F8290359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894E-61D8-46CF-B9F0-13600C22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684B-654A-4448-8AFB-B2F29AD5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4946-C8AC-4C18-8E4E-9F03658D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B4D2-7C0A-4043-8922-EE983533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DD30-E272-463C-8423-05A5461F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0173-284E-4ABB-A34A-B196001F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A56D-28DA-4AA9-B68C-1BE64815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7994-89B7-46A9-B768-0021F741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82B4-C4AF-45CF-BEEB-5314C257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2A64-5897-491B-A256-422E37BE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C91-55FC-4E57-A33A-16CB5798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8241-3118-4BA0-9B1D-6CA0B7F3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D38A-CF84-48EC-B18D-EB487C949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933B-2889-4379-96CC-E4A9B89B63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rzMhU_4m-g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cience Literacy in the High School Classroom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Examples of Teaching Scientific Literac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ructure of DNA: Cooperation and compet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students use the “How Science Works” handout to analyze the arti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zy 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students work through inferences v. conclu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deas for Scientific Literacy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ng science articles or classic scientific lit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ing and interpreting da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resear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pretation of data/grap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ation of science in the new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is Science Literacy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fic literacy is the knowledge and understanding of scientific concepts and processes required for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decision ma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tion in civic and cultural aff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produ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 includes specific types of abil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ientifically literate person ca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k, find, or determine answers to questions derived from curiosity about everyday exper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, explain, and predict natural phenome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 with understanding articles about science in the popular press and engage in social conversation about the validity of the conclus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 scientific issues underlying national and local decisions and express positions that are scientifically and technologically in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e the quality of scientific information on the basis of its source and the methods used to generate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e and evaluate arguments based on evidence and apply conclusions from such arguments appropriate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National Science Education Standard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eaching Science Literac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of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es of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fic 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cience Literacy Skil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king and exploration of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ection, organization, presentation, and analysis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ing and evaluating 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ductive reas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 sol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asoning and Conclus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lines of reasoning in this examp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www.youtube.com/watch?v=zrzMhU_4m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st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Line of Reasoning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burn witch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burn woo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fore, witches are made of woo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nd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Line of Reason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od floats on wat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ucks float on wat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fore, wood and ducks must weigh the sa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clus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person weighs the same as a duck, she is made of wood and is therefore a witc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1:05:35Z</dcterms:created>
  <dc:creator>College of Education</dc:creator>
  <dc:description/>
  <dc:language>en-US</dc:language>
  <cp:lastModifiedBy>elpalme</cp:lastModifiedBy>
  <dcterms:modified xsi:type="dcterms:W3CDTF">2011-02-21T20:37:47Z</dcterms:modified>
  <cp:revision>8</cp:revision>
  <dc:subject/>
  <dc:title>Science Literacy in the High School Classroom</dc:title>
</cp:coreProperties>
</file>